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DB9-975E-4ECD-BC90-D6E2FA4B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6A9-7E77-47D1-80BA-41A70019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BB5-1330-4EB1-AF02-5B2107D7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C41-5C81-4DE1-B874-283101B4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5D5-F450-4B2F-9A48-BBED5756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4F3-7F11-4276-86E3-8B08EB3E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2A3-9B63-46DA-A9EE-0B655CAA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6A2-3E5B-4347-9571-5B1065C1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289-DEED-4B54-BAD9-29BE1D99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C6B-85B7-40E7-A54E-EBC45BB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F6A-03DC-49A6-A9C5-0FDAEF77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9D1-298B-4E35-A563-824F295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DB32-4636-46AB-B429-8EA4BF44B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68160" y="1700280"/>
            <a:ext cx="3687840" cy="2603520"/>
            <a:chOff x="668160" y="1700280"/>
            <a:chExt cx="3687840" cy="2603520"/>
          </a:xfrm>
        </p:grpSpPr>
        <p:sp>
          <p:nvSpPr>
            <p:cNvPr id="43" name=""/>
            <p:cNvSpPr txBox="1"/>
            <p:nvPr/>
          </p:nvSpPr>
          <p:spPr>
            <a:xfrm>
              <a:off x="1317600" y="2275200"/>
              <a:ext cx="3038400" cy="20286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илениумът,</a:t>
              </a:r>
              <a:endParaRPr b="0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смъртта и</a:t>
              </a:r>
              <a:endParaRPr b="0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възкресението</a:t>
              </a:r>
              <a:endParaRPr b="0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668160" y="1700280"/>
              <a:ext cx="606600" cy="92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М</a:t>
              </a:r>
              <a:endParaRPr b="0" i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48360" y="287280"/>
            <a:ext cx="1584360" cy="54936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986280"/>
            <a:ext cx="4105440" cy="251928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92720" y="385920"/>
            <a:ext cx="1380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итие 1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16000" y="4149720"/>
            <a:ext cx="354348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земята беше пуст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устроена; и тъмни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криваше бездната;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жият Дух се носе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д водат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627280" y="836640"/>
            <a:ext cx="157176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ая 24:1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349360"/>
            <a:ext cx="433368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емята се съкруши съвсем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ята се разложи съвсем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ята силно се разтър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627280" y="836640"/>
            <a:ext cx="157176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ая 24:2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69960" y="2205000"/>
            <a:ext cx="3181320" cy="325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емята ще поли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то някой пиян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ще се люлее насам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там като колиба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еззаконието й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тегне върху нея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ще падне и ням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че да стан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607080" y="2349360"/>
            <a:ext cx="1781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ремия 4:2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08000" y="4221000"/>
            <a:ext cx="3934080" cy="1810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огледнах на земя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, ето, тя беше пус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празна, - На небет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ямаше светлината му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607080" y="2349360"/>
            <a:ext cx="1781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ремия 4:2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8000" y="4221000"/>
            <a:ext cx="3305520" cy="1810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огледнах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нините, и, ет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епереха, И всичк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ълмове се тресях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607080" y="2349360"/>
            <a:ext cx="1781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ремия 4:2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908000" y="4221000"/>
            <a:ext cx="3743640" cy="172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огледнах, и, ет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ямаше човек,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ите небес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тици бяха избягал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607080" y="2349360"/>
            <a:ext cx="1781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ремия 4:2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08000" y="3284640"/>
            <a:ext cx="3959280" cy="316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огледнах, и, ет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одородната стра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е пуста, И всичк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й градове бяха съсипа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присъствиет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а и от Негов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менен гняв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63640" y="476280"/>
            <a:ext cx="56833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empus Sans ITC"/>
              </a:rPr>
              <a:t>100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221000"/>
            <a:ext cx="8351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Милениумъ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468600" y="85572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43280" y="1628640"/>
            <a:ext cx="4238640" cy="4989600"/>
            <a:chOff x="4643280" y="1628640"/>
            <a:chExt cx="4238640" cy="4989600"/>
          </a:xfrm>
        </p:grpSpPr>
        <p:sp>
          <p:nvSpPr>
            <p:cNvPr id="99" name=""/>
            <p:cNvSpPr txBox="1"/>
            <p:nvPr/>
          </p:nvSpPr>
          <p:spPr>
            <a:xfrm>
              <a:off x="4643280" y="1628640"/>
              <a:ext cx="4238640" cy="25336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И видях престоли; и на тия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ито бяха насядали на тях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бе дадено да съдят; видях 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ушите на ония, които бях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безглавени порад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видетелствуването си з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суса, и поради Божие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932360" y="4313160"/>
              <a:ext cx="3917880" cy="23050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лово, и на ония, които не се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оклониха на звяра, нито на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браза му, и не приеха белега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а челото си и на ръката си;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те оживяха и царуваха с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Христа хиляда години. "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63640" y="476280"/>
            <a:ext cx="56833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empus Sans ITC"/>
              </a:rPr>
              <a:t>100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4221000"/>
            <a:ext cx="8351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</a:rPr>
              <a:t>Милениумъ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FreeHandCyr"/>
              <a:ea typeface="FreeHand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468600" y="85572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64000" y="2060640"/>
            <a:ext cx="341028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Другите мъртви н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живяха докле не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ършиха хиляд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дини. Това е първ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зкресени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468600" y="85572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05280" y="1755720"/>
            <a:ext cx="3943440" cy="325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Блажен и свет оня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аствува в първ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зкресение; над такив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тората смърт не ще им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ла; а те ще бъд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ещеници Богу и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риста и ще царуват 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 хиляда годин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593800" y="784080"/>
            <a:ext cx="13813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итие 2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6360" y="2195640"/>
            <a:ext cx="40669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Господ Бог създа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овека от пръст из земя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вдъхна в ноздрите му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знено дихание;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овекът стана жива душ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449440" y="836640"/>
            <a:ext cx="17622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яния 2:4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2276640"/>
            <a:ext cx="379080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тъй, тия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еха поучението му,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кръстиха; и в същ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н се прибавиха окол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и хиляди душ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2600" y="-19080"/>
            <a:ext cx="9156600" cy="686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27640" y="0"/>
            <a:ext cx="865080" cy="68580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771640" y="765000"/>
            <a:ext cx="1419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Йоан 5:2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52400" y="2565360"/>
            <a:ext cx="432432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едейте се чуди на това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 иде час, ког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и, които са в гробовет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чуят гласа Му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771640" y="765000"/>
            <a:ext cx="1419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Йоан 5:2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52400" y="2565360"/>
            <a:ext cx="325764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ще излязат; ония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са вършил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бро, ще възкръсн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живот, а които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ршили зло,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зкръснат 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съждан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560760" y="981000"/>
            <a:ext cx="2778120" cy="792360"/>
            <a:chOff x="3560760" y="981000"/>
            <a:chExt cx="2778120" cy="792360"/>
          </a:xfrm>
        </p:grpSpPr>
        <p:sp>
          <p:nvSpPr>
            <p:cNvPr id="50" name=""/>
            <p:cNvSpPr txBox="1"/>
            <p:nvPr/>
          </p:nvSpPr>
          <p:spPr>
            <a:xfrm>
              <a:off x="3995640" y="1258920"/>
              <a:ext cx="23432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FreeHandCyr"/>
                </a:rPr>
                <a:t>ткровени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  <a:ea typeface="FreeHandCyr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560760" y="981000"/>
              <a:ext cx="39672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FreeHandCyr"/>
                </a:rPr>
                <a:t>О</a:t>
              </a:r>
              <a:endParaRPr b="0" i="1" lang="en-US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FreeHandCyr"/>
                <a:ea typeface="FreeHand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771640" y="835200"/>
            <a:ext cx="1933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яния 24:1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52400" y="2565360"/>
            <a:ext cx="381960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че се надявам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га, че ще им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зкресение на правед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еправедни, което и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 сами приема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763640" y="1341360"/>
            <a:ext cx="2400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0" y="2060640"/>
            <a:ext cx="4087800" cy="3390840"/>
            <a:chOff x="4572000" y="2060640"/>
            <a:chExt cx="4087800" cy="3390840"/>
          </a:xfrm>
        </p:grpSpPr>
        <p:sp>
          <p:nvSpPr>
            <p:cNvPr id="131" name=""/>
            <p:cNvSpPr txBox="1"/>
            <p:nvPr/>
          </p:nvSpPr>
          <p:spPr>
            <a:xfrm>
              <a:off x="4572000" y="2060640"/>
              <a:ext cx="4086360" cy="1809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А колкото за страхливите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евярващите, мръсните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убийците, блудниците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чародейците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долопоклонниците 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716360" y="4076640"/>
              <a:ext cx="3943440" cy="13748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сичките лъжци, тяхнат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участ ще бъде в езерото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ето гори с огън и жупел.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Това е втората смърт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09800" y="784080"/>
            <a:ext cx="1419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Йоан 3:1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55640" y="2421000"/>
            <a:ext cx="362916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Бог толков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злюби света, че да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оя Единороден Син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да не погине ни един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вярва в Него, н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има вечен живо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74760" y="4900680"/>
            <a:ext cx="785808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според както е писано:Каквото око не е видял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ухо не е чуло, с начовешко сърце не е дохождал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о това е приготвил Бог за тия, които Го любя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640560" y="6165720"/>
            <a:ext cx="2324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Коринтяни 2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611280" y="4984920"/>
            <a:ext cx="6573600" cy="749160"/>
            <a:chOff x="611280" y="4984920"/>
            <a:chExt cx="6573600" cy="749160"/>
          </a:xfrm>
        </p:grpSpPr>
        <p:sp>
          <p:nvSpPr>
            <p:cNvPr id="144" name=""/>
            <p:cNvSpPr txBox="1"/>
            <p:nvPr/>
          </p:nvSpPr>
          <p:spPr>
            <a:xfrm>
              <a:off x="898560" y="5157720"/>
              <a:ext cx="628632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раят на милениума и      трашния съд</a:t>
              </a:r>
              <a:endPara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11280" y="5057640"/>
              <a:ext cx="371520" cy="67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К</a:t>
              </a:r>
              <a:endParaRPr b="0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741920" y="4984920"/>
              <a:ext cx="295200" cy="67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С</a:t>
              </a:r>
              <a:endParaRPr b="0" i="1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47" name=""/>
          <p:cNvSpPr txBox="1"/>
          <p:nvPr/>
        </p:nvSpPr>
        <p:spPr>
          <a:xfrm>
            <a:off x="7020000" y="5661000"/>
            <a:ext cx="1466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06 март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58920" y="619200"/>
            <a:ext cx="654840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30000"/>
                  </a:srgbClr>
                </a:solidFill>
                <a:latin typeface="Tempus Sans ITC"/>
              </a:rPr>
              <a:t>100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30000"/>
                </a:srgbClr>
              </a:solidFill>
              <a:latin typeface="Tempus Sans ITC"/>
              <a:ea typeface="Tempus Sans ITC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20720" y="5300640"/>
            <a:ext cx="6191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FreeHandCyr"/>
              </a:rPr>
              <a:t>Милениумъ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FreeHandCyr"/>
              <a:ea typeface="FreeHandCyr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58920" y="1341360"/>
            <a:ext cx="434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- Премиленизъ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305080" y="2708280"/>
            <a:ext cx="45720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- Постмиленизъ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16560" y="3933720"/>
            <a:ext cx="32954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- Амиленизъм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19564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1916280"/>
            <a:ext cx="3257280" cy="253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, че слизаш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небето един ангел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държеше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ъката си ключ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ездната и ед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ляма вериг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19564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1280" y="1916280"/>
            <a:ext cx="297180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й улови змея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ровременн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мия, която е дявол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сатана, и го вър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хиляда годин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19564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0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1916280"/>
            <a:ext cx="4410000" cy="32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, като го хвърли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ездната, заключи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я запечата над нег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да не мами веч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родите, преди да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ършат хилядата годин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ед което той трябва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ъде пуснат за малко време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07:52:12Z</dcterms:created>
  <dc:creator>The Mind</dc:creator>
  <dc:description/>
  <dc:language>en-US</dc:language>
  <cp:lastModifiedBy>Vlady</cp:lastModifiedBy>
  <dcterms:modified xsi:type="dcterms:W3CDTF">2005-02-27T12:57:40Z</dcterms:modified>
  <cp:revision>17</cp:revision>
  <dc:subject/>
  <dc:title>Slide 1</dc:title>
</cp:coreProperties>
</file>